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6356-B99B-4546-B884-D62C5336D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26BA4-EA4F-460F-8F47-58B1EA283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75B-0DCB-4C97-85CA-85CAE5A42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89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45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3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89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45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56BC-D698-4011-A5B3-F66E13C459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7AC66-634A-4B04-8F0D-57B1256B1E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81051-B7F0-412C-B12F-8465E6200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32073-B305-461F-94B9-09333522F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B5FDD-0E61-40F0-A3D9-0E9064B96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83F2D-AA26-4616-B47F-2243520F0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10920" y="-18000"/>
            <a:ext cx="82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67E6-69C7-499F-9564-BF6BCB9BD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D3B3C-7BAB-46D8-B96B-DB20C064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35A5-6E84-4707-ADBC-33A91705B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1B3E1-B5E3-44D6-98C7-4CC133937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DA979-2027-4DF4-82F3-9F15EEFA2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5FF9F-235D-4D93-95A1-0889A2BAA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787C-C215-48E9-9976-186FABA97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89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445080" y="162864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33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889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445080" y="3923280"/>
            <a:ext cx="243396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6EC2-8540-4CE9-B369-7A578868A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EEFC-CD21-4C00-8CAF-5CD7350CA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89CE-28A1-4706-BC54-48CDDB0A8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D132-D304-4C22-860E-6FC4AA38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10920" y="-18000"/>
            <a:ext cx="8243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4066-BE8E-4C66-A34A-2937DFB15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10A21-12F9-465D-96E5-EA891ACF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206680" y="392328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23143-7E4A-4911-B19D-EADC12E89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30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6680" y="1628640"/>
            <a:ext cx="368892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3080" y="3923280"/>
            <a:ext cx="7559640" cy="209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966E0-60AA-4867-91A1-DFE1242D0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98640" y="6389280"/>
            <a:ext cx="213336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20880" y="6389280"/>
            <a:ext cx="289548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01920" y="6389280"/>
            <a:ext cx="21337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BA1BD-5580-48F5-8A1D-EFBA79442694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3080" y="1628640"/>
            <a:ext cx="75596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33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2484000" y="6308640"/>
            <a:ext cx="170172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355640" y="6308640"/>
            <a:ext cx="23194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804000" y="6310080"/>
            <a:ext cx="1440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29D0C-D60A-403E-8A50-741A32163497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4360" y="1052280"/>
            <a:ext cx="7991280" cy="4537080"/>
          </a:xfrm>
          <a:prstGeom prst="rect">
            <a:avLst/>
          </a:prstGeom>
          <a:solidFill>
            <a:srgbClr val="cc3300">
              <a:alpha val="37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6600"/>
                </a:solidFill>
                <a:latin typeface="Arial Rounded MT Bold"/>
              </a:rPr>
              <a:t>REGIME  DIFERENCIADO DE  CONTRATAÇÕES  PÚBLICAS – RDC e as MPE’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619280" y="5876640"/>
            <a:ext cx="6400800" cy="5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 Rounded MT Bold"/>
              </a:rPr>
              <a:t>Dra. Christianne  Stropp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1477800" y="2708280"/>
            <a:ext cx="410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ff6600"/>
                </a:solidFill>
                <a:latin typeface="Arial"/>
              </a:rPr>
              <a:t>OBRIGADA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26920" y="5157720"/>
            <a:ext cx="6283440" cy="752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Dra. Christianne Strop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 Rounded MT Bold"/>
              </a:rPr>
              <a:t>c.stroppa@uol.com.b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Espaço Reservado para Número de Slide 1"/>
          <p:cNvSpPr/>
          <p:nvPr/>
        </p:nvSpPr>
        <p:spPr>
          <a:xfrm>
            <a:off x="6553080" y="6245280"/>
            <a:ext cx="2133720" cy="2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Espaço Reservado para Número de Slide 2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5E95B-D710-45AE-9352-5966B45BCFA6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pt-BR" sz="4400" spc="-1" strike="noStrike">
              <a:solidFill>
                <a:srgbClr val="cc66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 Rounded MT Bold"/>
              </a:rPr>
              <a:t>Prof. Carlos Ary Sundfeld: </a:t>
            </a:r>
            <a:r>
              <a:rPr b="0" i="1" lang="pt-BR" sz="3200" spc="-1" strike="noStrike">
                <a:solidFill>
                  <a:srgbClr val="000000"/>
                </a:solidFill>
                <a:latin typeface="Arial Rounded MT Bold"/>
              </a:rPr>
              <a:t>“Não é o RDC que veio para salvar a Copa do Mundo, mas a Copa do Mundo que se colocou como uma janela de oportunidades para uma necessária reforma da lei de licitações – a lei 8.666. Na realidade, o RDC é positivo.”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Espaço Reservado para Número de Slide 1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5644-F24A-4735-A191-1FC25F9E528A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cc6600"/>
                </a:solidFill>
                <a:latin typeface="Arial Rounded MT Bold"/>
              </a:rPr>
              <a:t>I- Norma geral ou especia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755640" y="1268280"/>
            <a:ext cx="813744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0000"/>
                </a:solidFill>
                <a:latin typeface="Arial Rounded MT Bold"/>
              </a:rPr>
              <a:t>Art. 22, XXVII c.c. art. 37, XXI, ambos CF/8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Lei nº 8.666/1993 e alter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Lei nº 10.520/2002 - Preg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Lei complementar nº 123/2006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80000"/>
              </a:lnSpc>
              <a:spcBef>
                <a:spcPts val="700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Lei nº 12.462/2011 e Decreto nº 7.581/2011 - Regime Diferenciado de Contrataç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Espaço Reservado para Número de Slide 1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FD0BB-1D9B-4668-8191-259D1990086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9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9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9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9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Rounded MT Bold"/>
              </a:rPr>
              <a:t>II- Regulamentaçã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Pela redação constante do art. 1</a:t>
            </a:r>
            <a:r>
              <a:rPr b="0" lang="pt-BR" sz="2800" spc="-1" strike="noStrike" u="sng" baseline="30000">
                <a:solidFill>
                  <a:srgbClr val="000000"/>
                </a:solidFill>
                <a:uFillTx/>
                <a:latin typeface="Arial Rounded MT Bold"/>
              </a:rPr>
              <a:t>o</a:t>
            </a: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  do Decreto, o Regime Diferenciado de Contratações Públicas – RDC fica regulamentado pela referida norm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 Rounded MT Bold"/>
              </a:rPr>
              <a:t>Decreto nº 943/2012 – Estado do Mato Grosso do Su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ff0000"/>
                </a:solidFill>
                <a:latin typeface="Arial Rounded MT Bold"/>
              </a:rPr>
              <a:t>Decreto nº 14.822/2012 -  Município de Belo Horizonte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Espaço Reservado para Número de Slide 1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344C3-9897-4D4F-9373-1ABA2593FCD9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Rounded MT Bold"/>
              </a:rPr>
              <a:t>III- Aplicação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8920" y="1196640"/>
            <a:ext cx="87138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Rounded MT Bold"/>
              </a:rPr>
              <a:t>Jogos Olímpicos e Paraolímpicos de 2016</a:t>
            </a: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, constantes da Carteira de Projetos Olímpicos a ser definida pela Autoridade Pública Olímpica (APO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Rounded MT Bold"/>
              </a:rPr>
              <a:t>Copa das Confederações da Federação Internacional de Futebol Associação - Fifa 2013 e da Copa do Mundo Fifa 2014</a:t>
            </a: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, definidos pelo Grupo Executivo - Gecopa 2014, restringindo-se, no caso de </a:t>
            </a:r>
            <a:r>
              <a:rPr b="1" lang="pt-BR" sz="2200" spc="-1" strike="noStrike">
                <a:solidFill>
                  <a:srgbClr val="000000"/>
                </a:solidFill>
                <a:latin typeface="Arial Rounded MT Bold"/>
              </a:rPr>
              <a:t>obras públicas</a:t>
            </a: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, às constantes da matriz de responsabilidades celebrada entre a União, Estados, Distrito Federal e Municípi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 Rounded MT Bold"/>
              </a:rPr>
              <a:t>obras de infraestrutura e de contratação de serviços para os aeroportos das capitais dos Estados da Federação distantes até 350 km</a:t>
            </a:r>
            <a:r>
              <a:rPr b="0" lang="pt-BR" sz="2200" spc="-1" strike="noStrike">
                <a:solidFill>
                  <a:srgbClr val="000000"/>
                </a:solidFill>
                <a:latin typeface="Arial Rounded MT Bold"/>
              </a:rPr>
              <a:t> (trezentos e cinquenta quilômetros) das cidades sedes dos mundiais referidos nos itens anterio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Espaço Reservado para Número de Slide 1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7C726-E9B8-4937-B77C-CB58FD6FAD2C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0920" y="1341360"/>
            <a:ext cx="82818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Lei nº 12.688, de 18/07/2012 conversão da MP nº 559/2012 – ações integrantes do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Programa de Aceleração do Crescimento - PAC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Lei nº 12.722, de 03/10/2012 conversão da MP nº 570/2012 – licitações e contratos necessários à realização de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obras e serviços de engenharia no âmbito dos sistemas públicos de ensin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Projeto de Lei de Conversão (PLV) nº 24/2012 da MP nº 580/2012 – licitações e contratos necessários à realização de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obras e serviços de engenharia no âmbito dos sistemas públicos de saúde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Espaço Reservado para Número de Slide 3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82218-2234-4B96-9289-96FA09F2FC1E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6600"/>
                </a:solidFill>
                <a:latin typeface="Arial Rounded MT Bold"/>
              </a:rPr>
              <a:t>IV- Análise das MPE’s frente ao RDC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7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ASPECTOS POS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Busca da maior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vantagem para a Administraçã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Fim da ditadura legal –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mitigação do formalism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Fim das modalidades rígidas de licit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Fim da ditadura do menor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Rito processual 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adoção do procedimento do pregão como reg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numeração expressa do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princípio da economicidade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e da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eficiência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(mudança de paradigma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Espaço Reservado para Número de Slide 1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B32A5-89D4-4E4A-B958-804CAE1619A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341000"/>
            <a:ext cx="8208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Padronização 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de instrumentos convocatórios, minutas de contratos e da descrição dos obje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stabelece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preferência local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Estabelece </a:t>
            </a: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parcelamento do objet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Aplicação expressa da preferência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contida nos art. 42 a 49 da LC nº 123/2006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Empate fict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– percentual de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0000"/>
                </a:solidFill>
                <a:latin typeface="Arial Rounded MT Bold"/>
              </a:rPr>
              <a:t>Consórcio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compostos, em sua totalidade, por MPE’s, não há incidência do acréscimo de 30% dos valores exigidos para licitante individu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Espaço Reservado para Número de Slide 1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8F178-BF19-4B00-9429-DACEA62D146F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-18000"/>
            <a:ext cx="824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820872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 Rounded MT Bold"/>
              </a:rPr>
              <a:t>ASPECTOS CRÍ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33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Conhecer o novo procedimento, principalmente: o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modo de disputa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(aberto, fechado ou combinado), o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critérios de classificação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para cada etapa da disputa e as </a:t>
            </a:r>
            <a:r>
              <a:rPr b="0" lang="pt-BR" sz="2400" spc="-1" strike="noStrike" u="sng">
                <a:solidFill>
                  <a:srgbClr val="000000"/>
                </a:solidFill>
                <a:uFillTx/>
                <a:latin typeface="Arial Rounded MT Bold"/>
              </a:rPr>
              <a:t>regras para apresentação de propostas e de lances</a:t>
            </a: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 (presencial ou eletrônic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 Rounded MT Bold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Espaço Reservado para Número de Slide 2"/>
          <p:cNvSpPr/>
          <p:nvPr/>
        </p:nvSpPr>
        <p:spPr>
          <a:xfrm>
            <a:off x="6902280" y="6389640"/>
            <a:ext cx="2133720" cy="3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773A-03A7-4B03-B8FD-01E0D5BE2E6B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6T21:53:34Z</dcterms:created>
  <dc:creator>CLAUDIO</dc:creator>
  <dc:description/>
  <dc:language>en-US</dc:language>
  <cp:lastModifiedBy>Christianne</cp:lastModifiedBy>
  <dcterms:modified xsi:type="dcterms:W3CDTF">2012-11-21T16:35:56Z</dcterms:modified>
  <cp:revision>158</cp:revision>
  <dc:subject/>
  <dc:title>TERCEIRO SETOR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828981046</vt:lpwstr>
  </property>
</Properties>
</file>